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69A-0F34-4D59-AF2F-CD5F1D26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FF2-C300-4F75-8666-21F0BBB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BB6-E3EF-436A-B6E2-DACAE0B6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FF2-AE0A-4319-8D68-EB6C9C9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E90-1FCC-4DE2-9E02-7CC7583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B13-8CD3-4DA3-83AD-FD3F57A9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8B7-D43B-4260-A43B-896C0C7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F2C-190D-4519-BE11-00E9AE8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8D2-ADA9-4E6B-843B-3A73CCE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F02-6203-4573-AE36-1EDF93B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70D-8457-4947-BD62-55F5BB6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8B-21E4-4E5C-9E97-BC68240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E863-43DC-4249-B6EF-57F85F1D1E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500" spc="-1" strike="noStrike">
                <a:solidFill>
                  <a:srgbClr val="ffffff"/>
                </a:solidFill>
                <a:latin typeface="Arial"/>
                <a:cs typeface="????Boutros Rokaa"/>
              </a:rPr>
              <a:t>الوعد تحقق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الوعد تحقّق طفل زغ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جدّد قلب الختيار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قلبو في ندر كب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حمل للأرض بشاره</a:t>
            </a:r>
            <a:br>
              <a:rPr sz="82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مين يفرّحلي قل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هديّه سماويّ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نعمة حبَّك يا ربّ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طيتني أحلى هديّه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طفل زغيَّر بينا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جايي من بعدي يسوع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لى طريقو يه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ويمسح عن عينيك الدّمو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80360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08:25Z</dcterms:created>
  <dc:creator>Charbel Azar</dc:creator>
  <dc:description/>
  <dc:language>en-US</dc:language>
  <cp:lastModifiedBy>-</cp:lastModifiedBy>
  <dcterms:modified xsi:type="dcterms:W3CDTF">2003-01-15T09:00:24Z</dcterms:modified>
  <cp:revision>9</cp:revision>
  <dc:subject/>
  <dc:title>Slide 1</dc:title>
</cp:coreProperties>
</file>